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7A55-2255-4DDA-B4A7-379FF8556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6068-890E-4BBE-91DE-DF674EB5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62BD-79C4-4578-B16E-50DB6B8AF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2FDE-A912-4D5A-8ADE-A6C6D0D81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5EE6-3593-41F5-AE1A-A092757B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2C97-D917-4A72-9348-0E6EA7BF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6E3E-E7A1-46EF-979B-74FEE217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F36D-6DAF-4735-84B1-EB0B301C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38C8-1575-4F2E-ADF7-543DA7BF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3970-47E7-4E57-BCC1-366593D6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2EF1-8BCD-42D7-8D82-7DB1B956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CAC5-F45A-4C2E-A9E4-7CEB0774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1160-5CC4-4043-99AD-9D8C09C81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rankaw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ounts describe Karankawas as a very tall people, who adorned themselves with tattoos and practiced body pierc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83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12" descr="http://www.bchm.org/Austin/p5.gif"/>
          <p:cNvPicPr/>
          <p:nvPr/>
        </p:nvPicPr>
        <p:blipFill>
          <a:blip r:embed="rId1"/>
          <a:stretch/>
        </p:blipFill>
        <p:spPr>
          <a:xfrm>
            <a:off x="5867280" y="838080"/>
            <a:ext cx="2775240" cy="556272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13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rankaw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y obtained food by a combination of hunting, fishing, and gathering. Fish, shellfish, and turtles were staples of the Karankawa diet, but a wide variety of animals and plants contributed to their sustenan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C:\Program Files\Microsoft Office\Clipart\standard\stddir1\BD06980_.WMF"/>
          <p:cNvPicPr/>
          <p:nvPr/>
        </p:nvPicPr>
        <p:blipFill>
          <a:blip r:embed="rId1"/>
          <a:stretch/>
        </p:blipFill>
        <p:spPr>
          <a:xfrm>
            <a:off x="4648320" y="2171880"/>
            <a:ext cx="3809880" cy="373212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6">
            <a:hlinkClick r:id="" action="ppaction://hlinkshowjump?jump=nextslide"/>
          </p:cNvPr>
          <p:cNvSpPr/>
          <p:nvPr/>
        </p:nvSpPr>
        <p:spPr>
          <a:xfrm>
            <a:off x="7696080" y="5562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rankaw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Karankawas were seasonal hunters and gather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gout canoes laden with hides, pottery, fish traps, bows, arrows and other tools, carried families from one seasonal camp to anoth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C:\Documents and Settings\MBHILL\My Documents\My Pictures\p3-26-1.gif"/>
          <p:cNvPicPr/>
          <p:nvPr/>
        </p:nvPicPr>
        <p:blipFill>
          <a:blip r:embed="rId1"/>
          <a:stretch/>
        </p:blipFill>
        <p:spPr>
          <a:xfrm>
            <a:off x="4572000" y="1600200"/>
            <a:ext cx="3406680" cy="472428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6">
            <a:hlinkClick r:id="" action="ppaction://hlinkshowjump?jump=nextslide"/>
          </p:cNvPr>
          <p:cNvSpPr/>
          <p:nvPr/>
        </p:nvSpPr>
        <p:spPr>
          <a:xfrm>
            <a:off x="7696080" y="54864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rankaw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Kirankawas carried their summer home with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opened up the walls to allow air to come through and cool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loor was covered with clam shells to keep the interior dry and provide a base for cooking fi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http://www.bchm.org/Austin/p3-27.gif"/>
          <p:cNvPicPr/>
          <p:nvPr/>
        </p:nvPicPr>
        <p:blipFill>
          <a:blip r:embed="rId1"/>
          <a:stretch/>
        </p:blipFill>
        <p:spPr>
          <a:xfrm>
            <a:off x="4876920" y="1523880"/>
            <a:ext cx="3774960" cy="385632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15">
            <a:hlinkClick r:id="" action="ppaction://hlinkshowjump?jump=nextslide"/>
          </p:cNvPr>
          <p:cNvSpPr/>
          <p:nvPr/>
        </p:nvSpPr>
        <p:spPr>
          <a:xfrm>
            <a:off x="75438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8:24:27Z</dcterms:created>
  <dc:creator>BISD</dc:creator>
  <dc:description/>
  <dc:language>en-US</dc:language>
  <cp:lastModifiedBy>McKinney ISD</cp:lastModifiedBy>
  <dcterms:modified xsi:type="dcterms:W3CDTF">2013-10-10T12:42:08Z</dcterms:modified>
  <cp:revision>8</cp:revision>
  <dc:subject/>
  <dc:title>Kirankawas</dc:title>
</cp:coreProperties>
</file>